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30120" y="-360"/>
            <a:ext cx="3008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6245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30120" y="8624520"/>
            <a:ext cx="30085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B36-EEE5-4B5E-8FAE-881A28878946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930480" y="8624880"/>
            <a:ext cx="3008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79E7-DE30-4B60-BD4E-38E14B9FA42A}" type="slidenum">
              <a:rPr b="0" lang="ja-JP" sz="12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930480" y="8624880"/>
            <a:ext cx="3008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FD7-3994-4207-9042-37ED05CEBDDC}" type="slidenum">
              <a:rPr b="0" lang="ja-JP" sz="12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930480" y="8624880"/>
            <a:ext cx="3008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C65-03FC-49C4-AC09-BE4B83245758}" type="slidenum">
              <a:rPr b="0" lang="ja-JP" sz="12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930480" y="8624880"/>
            <a:ext cx="3008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34D-22B9-4139-852E-09E209481616}" type="slidenum">
              <a:rPr b="0" lang="ja-JP" sz="1200" spc="-1" strike="noStrike">
                <a:solidFill>
                  <a:srgbClr val="ccec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494880"/>
            <a:ext cx="8915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66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2880" y="10666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7520" y="10666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4948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2880" y="34948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7520" y="34948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839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66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3494880"/>
            <a:ext cx="8915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3494880"/>
            <a:ext cx="8915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66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880" y="10666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57520" y="10666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34948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880" y="34948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57520" y="3494880"/>
            <a:ext cx="287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228240"/>
            <a:ext cx="88390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6640" y="34948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6640" y="1066680"/>
            <a:ext cx="4350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494880"/>
            <a:ext cx="8915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010280" y="6324120"/>
            <a:ext cx="1905120" cy="2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ge </a:t>
            </a:r>
            <a:fld id="{F1CA29DC-7111-4BD8-8F7E-F3E5C25B9D8D}" type="slidenum"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 of allpag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1" descr="jsae"/>
          <p:cNvPicPr/>
          <p:nvPr/>
        </p:nvPicPr>
        <p:blipFill>
          <a:blip r:embed="rId2"/>
          <a:stretch/>
        </p:blipFill>
        <p:spPr>
          <a:xfrm>
            <a:off x="0" y="6110280"/>
            <a:ext cx="1219320" cy="7477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bug bmp"/>
          <p:cNvPicPr/>
          <p:nvPr/>
        </p:nvPicPr>
        <p:blipFill>
          <a:blip r:embed="rId3"/>
          <a:stretch/>
        </p:blipFill>
        <p:spPr>
          <a:xfrm>
            <a:off x="1295280" y="6248520"/>
            <a:ext cx="1067040" cy="477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SETC Logo"/>
          <p:cNvPicPr/>
          <p:nvPr/>
        </p:nvPicPr>
        <p:blipFill>
          <a:blip r:embed="rId4"/>
          <a:stretch/>
        </p:blipFill>
        <p:spPr>
          <a:xfrm>
            <a:off x="2514600" y="6248520"/>
            <a:ext cx="12193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39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3" name="Picture 1041" descr="jsae"/>
          <p:cNvPicPr/>
          <p:nvPr/>
        </p:nvPicPr>
        <p:blipFill>
          <a:blip r:embed="rId2"/>
          <a:stretch/>
        </p:blipFill>
        <p:spPr>
          <a:xfrm>
            <a:off x="0" y="6110280"/>
            <a:ext cx="1219320" cy="74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43" descr="bug bmp"/>
          <p:cNvPicPr/>
          <p:nvPr/>
        </p:nvPicPr>
        <p:blipFill>
          <a:blip r:embed="rId3"/>
          <a:stretch/>
        </p:blipFill>
        <p:spPr>
          <a:xfrm>
            <a:off x="1295280" y="6248520"/>
            <a:ext cx="1067040" cy="47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44" descr="SETC Logo"/>
          <p:cNvPicPr/>
          <p:nvPr/>
        </p:nvPicPr>
        <p:blipFill>
          <a:blip r:embed="rId4"/>
          <a:stretch/>
        </p:blipFill>
        <p:spPr>
          <a:xfrm>
            <a:off x="2514600" y="6248520"/>
            <a:ext cx="1219320" cy="514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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Marlett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6629040" y="5866920"/>
            <a:ext cx="19810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Title of Presentation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Author,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010280" y="5638680"/>
            <a:ext cx="1828800" cy="9478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Compan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Log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18200" y="2011320"/>
            <a:ext cx="77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SAE Paper Number/JSAE Paper Numb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フッター プレースホルダ 3"/>
          <p:cNvSpPr/>
          <p:nvPr/>
        </p:nvSpPr>
        <p:spPr>
          <a:xfrm>
            <a:off x="7010280" y="6324480"/>
            <a:ext cx="1905120" cy="2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ge </a:t>
            </a:r>
            <a:fld id="{5B1AD13D-9470-4214-A7FC-F0017B4B0C0B}" type="slidenum"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 of allpage numbe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Presentation Slide 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andscap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inimum of information on each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ghlight Main 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Photos &amp; Draw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trasting Col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se of simulation or videos is encour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 Commercial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フッター プレースホルダ 3"/>
          <p:cNvSpPr/>
          <p:nvPr/>
        </p:nvSpPr>
        <p:spPr>
          <a:xfrm>
            <a:off x="7010280" y="6324480"/>
            <a:ext cx="1905120" cy="2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ge </a:t>
            </a:r>
            <a:fld id="{4D8E29A1-97F8-4A5B-8CC9-19431C984742}" type="slidenum"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 of allpage numbe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Call for Candidates to the SETC2013 Presentation Awards 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SETC committee announces the Presentation Awards for excellent technical present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ive winners will be chosen by SETC committee   considering the following i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ating presentation mater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ntation rating by aud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wards will be announced by the Technical Committee Chairs at the Closing Ceremo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フッター プレースホルダ 3"/>
          <p:cNvSpPr/>
          <p:nvPr/>
        </p:nvSpPr>
        <p:spPr>
          <a:xfrm>
            <a:off x="7010280" y="6324480"/>
            <a:ext cx="1905120" cy="2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Page </a:t>
            </a:r>
            <a:fld id="{1E721F85-C04D-47F1-98F2-9FB48DF565BA}" type="slidenum"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6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 of allpage numbe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Application:</a:t>
            </a:r>
            <a:endParaRPr b="1" lang="en-US" sz="3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pload onto “Paper Entry System” in a pdf file or PowerPoint as a *.zip file to the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4920" y="22860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ＭＳ Ｐゴシック"/>
              </a:rPr>
              <a:t>Applications Due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3276720"/>
            <a:ext cx="30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p. 9, 201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>pkreh</dc:creator>
  <dc:description/>
  <dc:language>en-US</dc:language>
  <cp:lastModifiedBy>0380284</cp:lastModifiedBy>
  <cp:lastPrinted>2000-12-19T20:25:35Z</cp:lastPrinted>
  <dcterms:modified xsi:type="dcterms:W3CDTF">2013-07-01T04:53:19Z</dcterms:modified>
  <cp:revision>38</cp:revision>
  <dc:subject/>
  <dc:title>Title of Presentation</dc:title>
</cp:coreProperties>
</file>